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B57-E4E7-47A4-8300-A6AC2EE4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C45-D736-4968-9824-D5C9FC72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DB7-8F62-4CC8-B51B-D2DE92AC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94E-4776-497B-BC77-4C55F8A1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64C4-CAEE-4936-9DDB-CE020B8C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1ED9-B8CC-468B-8F6A-34CF770F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98A6-875E-45C8-B90A-D0913C9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91A3-2088-440D-8F95-0FD7BE62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4AD1-211B-40E7-9352-79B914DA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E1BF-564F-43F2-A4DB-F469EAB5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19DC-5975-4DFE-A2C6-83FDF928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989-323B-4051-82E6-4B81D071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5AC8-9EF0-4966-9422-143630F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AA16-8335-49DD-B35D-95075A9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318E-28B5-473C-B109-9FD5A6BA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5C3B-971C-41A1-95F0-A9641F07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90D8-BBAA-42E5-BEBA-26279323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1E4-CD22-40A7-9420-A850831A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A2B-C54D-47DB-BC23-59BB464C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C63-51CA-42BC-9981-DFC19884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2DA-BA52-4148-8A12-F5419D52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743-516E-478E-ACFE-F167538C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793-D836-4452-B220-083B35D8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90A-B83E-4739-A118-F5F53737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D8B0-2081-4C0D-AA6C-40672A34361C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D03D-200F-4C2B-9280-83C945CB4BAD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58760" y="755640"/>
            <a:ext cx="9326520" cy="323676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749160" y="469800"/>
            <a:ext cx="7096320" cy="125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086600" cy="15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OUTLINE: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Vocab test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Tree of facts: share and put up on wall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Researching other animals that are threatened, endangered or extinct 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Book Antiqua"/>
              </a:rPr>
              <a:t>NB:(Students can either each research an animal that’s threatened, endangered and extinct or one student can research a threatened animal and another endangered and the other extinct)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H/W: 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Vocab; Research topic: BEHAVIOUR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115920" y="963720"/>
            <a:ext cx="9290160" cy="2889000"/>
          </a:xfrm>
          <a:prstGeom prst="rect">
            <a:avLst/>
          </a:prstGeom>
          <a:ln w="0">
            <a:noFill/>
          </a:ln>
        </p:spPr>
      </p:pic>
      <p:sp>
        <p:nvSpPr>
          <p:cNvPr id="90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242560" cy="1609920"/>
          </a:xfrm>
          <a:prstGeom prst="rect">
            <a:avLst/>
          </a:prstGeom>
          <a:ln w="0">
            <a:noFill/>
          </a:ln>
        </p:spPr>
      </p:pic>
      <p:sp>
        <p:nvSpPr>
          <p:cNvPr id="93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0" y="90792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ind a species that is either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-THREATENED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- ENDANGERED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- EXTINCT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at do these following terms mean?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**Threatened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**Endangered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**Extinct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escribe your species. 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clude a photo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xplain the species’ :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HABITAT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FAMILY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FOOD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BEHAVIOUR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PREDATORS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y is the species you have chosen Threatened/Endangered or Extinct?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can we help this species?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at Organisation is helping them survive?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603360" y="49320"/>
            <a:ext cx="8412120" cy="251784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99" name="Picture 10" descr="http://www.african-safari-journals.com/image-files/orangutan-pictures.jpg"/>
          <p:cNvPicPr/>
          <p:nvPr/>
        </p:nvPicPr>
        <p:blipFill>
          <a:blip r:embed="rId2"/>
          <a:stretch/>
        </p:blipFill>
        <p:spPr>
          <a:xfrm>
            <a:off x="468360" y="2637000"/>
            <a:ext cx="3240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4100" spc="-1" strike="noStrike">
              <a:solidFill>
                <a:srgbClr val="dce3d3"/>
              </a:solidFill>
              <a:latin typeface="Lucida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0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0:01:51Z</dcterms:created>
  <dc:creator>Taylor</dc:creator>
  <dc:description/>
  <dc:language>en-US</dc:language>
  <cp:lastModifiedBy>Education</cp:lastModifiedBy>
  <dcterms:modified xsi:type="dcterms:W3CDTF">2010-08-04T06:43:19Z</dcterms:modified>
  <cp:revision>51</cp:revision>
  <dc:subject/>
  <dc:title>DEFORESTATION</dc:title>
</cp:coreProperties>
</file>